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741-E38D-4EC1-A204-8855BBBA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D3E-1B55-45E8-BDF5-ECA1E6A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B35-90D3-4844-9922-77D42ACB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9CE-E59A-4985-BC75-9CDDC88D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701E-CDA3-4A7E-8046-1A5D3154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D2D9-FCBA-4447-AC34-009B09C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4EA9-43B8-48C3-9C57-3C89F1C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F955-F5EC-4BA8-8AB0-03A0D6C8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D12-CFB0-4251-981F-4FC5E80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6A72-DD1C-4308-95D9-74018469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7133-28DA-409F-8BFD-68DACBC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1D5-20DD-4558-8152-CE755C37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B91A-D8DE-4A10-B1D1-E0571C3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487F-E6EC-42A5-A6E6-B8BBA19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4CF8-2E0F-40D3-8867-8DB6B99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B8C8-16B6-4721-8012-1911359B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E4BD-0056-4A2A-934F-85559058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B9D-B15E-4C7F-9B89-28E6830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920-F64A-427D-AB97-384BEF7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00B-0747-4A80-B311-85907D9A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244-48C4-40EF-9918-4CC5743D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794-1F70-4489-BA1A-3BE9D49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BAA-7D26-4AE5-A437-A7981B4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839-71EB-46FF-A9C2-5068C8E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3D30-F9C1-46B6-9F8D-62BB17CB755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ADF1-DE37-4610-A108-381BF618B6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371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Las Comida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Por Olivia Barbie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El Desayuno, El Almuerzo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La Cena, El Postre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y La Merien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Desayun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Gof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1143000" cy="1122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81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133720" y="2286000"/>
            <a:ext cx="9684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58128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581280" y="2286000"/>
            <a:ext cx="1444680" cy="1165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562720" y="3581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638680" y="2286000"/>
            <a:ext cx="1219320" cy="1203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193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914400" y="4191120"/>
            <a:ext cx="2054160" cy="1541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6252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Jugo de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14800" y="4267080"/>
            <a:ext cx="205740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Almuerz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almuerzo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2705040" cy="1447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62120" y="3962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276720" y="23623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34120" y="3962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S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ándwich de Queso a la Planch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410080" y="243828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6095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Sopa de Tom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09480" y="4572000"/>
            <a:ext cx="2210040" cy="1477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1240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3048120" y="4572000"/>
            <a:ext cx="1971720" cy="1471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638680" y="6172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562720" y="4724280"/>
            <a:ext cx="10951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e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la cena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M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aí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1600200" cy="116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24080" y="3581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1524240" cy="1217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ow to make mashed potatoes from scratch"/>
          <p:cNvPicPr/>
          <p:nvPr/>
        </p:nvPicPr>
        <p:blipFill>
          <a:blip r:embed="rId4"/>
          <a:stretch/>
        </p:blipFill>
        <p:spPr>
          <a:xfrm>
            <a:off x="5105520" y="2286000"/>
            <a:ext cx="1743120" cy="1319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105520" y="3657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ur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de Pap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57200" y="4191120"/>
            <a:ext cx="2162160" cy="145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80880" y="5791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ollo a la Parmesan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971800" y="4267080"/>
            <a:ext cx="1790640" cy="1187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81952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os Macarrones con Ques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562720" y="4343400"/>
            <a:ext cx="965160" cy="1600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8006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ostr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el postre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676160" cy="15796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0880" y="4114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Helado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429000" y="2286000"/>
            <a:ext cx="1415880" cy="1809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8120" y="4191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Past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410080" y="2362320"/>
            <a:ext cx="2057400" cy="1363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257800" y="3733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1371600" y="4572000"/>
            <a:ext cx="1514520" cy="1514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0948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Dul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4495680"/>
            <a:ext cx="965160" cy="1600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890520" y="61722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Merien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1298520" cy="1514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72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1203120" cy="1523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12408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1415880" cy="1428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34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1523880" y="4419720"/>
            <a:ext cx="175284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676520" y="5638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4572000" y="4495680"/>
            <a:ext cx="1676520" cy="123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4197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El Jugo de Frut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0:43:53Z</dcterms:created>
  <dc:creator>Judi</dc:creator>
  <dc:description/>
  <dc:language>en-US</dc:language>
  <cp:lastModifiedBy>barbierioli</cp:lastModifiedBy>
  <dcterms:modified xsi:type="dcterms:W3CDTF">2011-04-14T17:57:23Z</dcterms:modified>
  <cp:revision>18</cp:revision>
  <dc:subject/>
  <dc:title>Las Comidas</dc:title>
</cp:coreProperties>
</file>